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CB3-D855-443A-B479-2F076B31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CD2-1422-4EC7-8C08-91322484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D8E-B1B4-4731-BE1F-C2C0667C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10C-CA76-4D7C-9207-DE27CBE9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CE4-9076-4A8D-A9BB-1682C182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074-557C-4BE4-A5FA-7886483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2FD-301F-4F3E-AAF0-D0C9BB0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292-2500-4B68-94E8-23356D6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CE9-7709-4D57-A063-A8D3816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393-23FA-4ECE-9617-6FC2BCEF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78C-E1CF-43DA-8933-6FFF95B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E09-0857-456A-B1F8-1FCD788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B02-C9A1-4089-9D6F-09D37D6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26C-9B5D-4A24-920B-4375E645E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apple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51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pple Incorporate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51814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ley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181480"/>
            <a:ext cx="4038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music: Freeplay Music, 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doni MT Black"/>
              </a:rPr>
              <a:t>hic chick,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3/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doni MT Black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doni MT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S Mincho"/>
              </a:rPr>
              <a:t>Inventor: Steve Jobs &amp; Steve Wozni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They created the Apple company in 19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ve Paul Jobs was born on February 24, 1955 in San Francisco, California, but was adopted as an infant and raised in Los Alto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hen Gary Wozniak was born on August 11, 1959 in San Jose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Jobs created the idea and convinced Wozniak to join the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The first Apple software was generated in Jobs’ family garage, in 19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52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Invention: Apple Incorpo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first Apple computer was the “Apple Is,” and it was sold for $6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“Apple Is,” was the first single-board keyboard and also had video inter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In 1977 Jobs and Wozniak introduced the Apple II, which had over 1,500 applications.</a:t>
            </a: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79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e In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Apple computers went public in 1980 and became the most popular computer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Jobs eventually drifted from the company and started a new company called, “NeXT,” and tried to compete with Apple, but failed miser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He sold the “NeXT” software to Apple, and when Jobs returned they created the Mac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307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137160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' 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3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00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Jobs and Wozniak"/>
          <p:cNvPicPr/>
          <p:nvPr/>
        </p:nvPicPr>
        <p:blipFill>
          <a:blip r:embed="rId1"/>
          <a:stretch/>
        </p:blipFill>
        <p:spPr>
          <a:xfrm>
            <a:off x="0" y="0"/>
            <a:ext cx="7315200" cy="225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2438280"/>
            <a:ext cx="2971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doni MT Black"/>
              </a:rPr>
              <a:t>Jobs and Wozniak , </a:t>
            </a:r>
            <a:r>
              <a:rPr b="0" lang="en-US" sz="1800" spc="-1" strike="noStrike">
                <a:solidFill>
                  <a:srgbClr val="ffffff"/>
                </a:solidFill>
                <a:latin typeface="Bodoni MT Black"/>
              </a:rPr>
              <a:t>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odoni MT Black"/>
                <a:hlinkClick r:id="rId2"/>
              </a:rPr>
              <a:t>http: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038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390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17Z</dcterms:created>
  <dc:creator>install</dc:creator>
  <dc:description/>
  <dc:language>en-US</dc:language>
  <cp:lastModifiedBy>install</cp:lastModifiedBy>
  <dcterms:modified xsi:type="dcterms:W3CDTF">2011-03-11T18:31:00Z</dcterms:modified>
  <cp:revision>30</cp:revision>
  <dc:subject/>
  <dc:title>Slide 1</dc:title>
</cp:coreProperties>
</file>